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4245-F42C-4CAE-B047-1E704FC540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is meant by the term endocrine 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cellular structure of an islet of Langerhans from the pancr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 the role of the pancreas as an endocrine 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is meant by the term endocrine 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cellular structure of an islet of Langerhans from the pancr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 the role of the pancreas as an endocrine 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ormones circulate in blood, coming into contact with essentially all cells. However, a given hormone usually affects only a limited number of cells, which are called target cells. A target cell responds to a hormone because it bears receptors for the horm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or is usually an org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ormones circulate in blood, coming into contact with essentially all cells. However, a given hormone usually affects only a limited number of cells, which are called target cells. A target cell responds to a hormone because it bears receptors for the horm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or is usually an org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advantages of treating diabetics with human insulin produced by genetic engin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advantages of treating diabetics with human insulin produced by genetic engin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-medlib.med.utah.edu/WebPath/ENDOHTML/ENDO03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-medlib.med.utah.edu/WebPath/ENDOHTML/ENDO03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crine Gland: a gland that secretes externally through a 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rine Gland: a gland that secretes hormones into the bloodstr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crine Gland: a gland that secretes externally through a 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rine Gland: a gland that secretes hormones into the bloodstr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ncreas has an exocrine portion that secretes digestive enzymes that are carried through a duct to the duodenum. The endocrine portion consists of the pancreatic islets, which secrete glucagons and insul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ncreas has an exocrine portion that secretes digestive enzymes that are carried through a duct to the duodenum. The endocrine portion consists of the pancreatic islets, which secrete glucagons and insul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the blood glucose concentration is regulated by negative feedback control mechanisms, with reference to insulin and glucag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the importance of homeostasis in mammals, and explain the principles of homeostasis in terms of receptors, effectors and negative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the blood glucose concentration is regulated by negative feedback control mechanisms, with reference to insulin and glucag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the importance of homeostasis in mammals, and explain the principles of homeostasis in terms of receptors, effectors and negative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C4F0-F991-4B05-BA67-99BA78116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A9E9-1C6F-4FFF-8804-23FBA026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C380-910E-4593-9CFC-09208C350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433C-727D-446C-8B76-5144B16C9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7B69-87DC-443B-9764-1ABAC42F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CE76-371E-4001-816B-EE009F35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EAFC-9386-419D-A65C-E335DAC8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EADD-2E86-48FE-8DAE-DD009D64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3CF8-05AC-4E71-A2F7-1274481A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99FD-1626-4379-9C1F-E279925F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5B1A-5BE7-4735-8E2B-0C0B9FDF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CE6C-EF8F-474D-BDEF-915D74FE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2FAE-96ED-41CF-90F4-38FC1746880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what is meant by the term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ocrine gla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e the cellular structure of an islet of Langerhans from the panc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tline the role of the pancreas as an endocrine 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0944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targets"/>
          <p:cNvPicPr/>
          <p:nvPr/>
        </p:nvPicPr>
        <p:blipFill>
          <a:blip r:embed="rId1"/>
          <a:stretch/>
        </p:blipFill>
        <p:spPr>
          <a:xfrm>
            <a:off x="380880" y="1792440"/>
            <a:ext cx="85345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hormone_2"/>
          <p:cNvPicPr/>
          <p:nvPr/>
        </p:nvPicPr>
        <p:blipFill>
          <a:blip r:embed="rId1"/>
          <a:stretch/>
        </p:blipFill>
        <p:spPr>
          <a:xfrm>
            <a:off x="152280" y="1050840"/>
            <a:ext cx="883944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hormones circulate in blood, coming into contact with essentially all cells. However, a given hormone usually affects only a limited number of cells, which are calle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target cell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A target cell responds to a hormone because it bears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receptor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the horm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ffector is usually an org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the advantages of treating diabetics with human insulin produced by genetic enginee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insulin"/>
          <p:cNvPicPr/>
          <p:nvPr/>
        </p:nvPicPr>
        <p:blipFill>
          <a:blip r:embed="rId1"/>
          <a:stretch/>
        </p:blipFill>
        <p:spPr>
          <a:xfrm>
            <a:off x="990720" y="282600"/>
            <a:ext cx="716256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9"/>
          <p:cNvGrpSpPr/>
          <p:nvPr/>
        </p:nvGrpSpPr>
        <p:grpSpPr>
          <a:xfrm>
            <a:off x="3108240" y="1023840"/>
            <a:ext cx="5000760" cy="268200"/>
            <a:chOff x="3108240" y="1023840"/>
            <a:chExt cx="5000760" cy="268200"/>
          </a:xfrm>
        </p:grpSpPr>
        <p:sp>
          <p:nvSpPr>
            <p:cNvPr id="51" name="Rectangle 6"/>
            <p:cNvSpPr/>
            <p:nvPr/>
          </p:nvSpPr>
          <p:spPr>
            <a:xfrm>
              <a:off x="3108240" y="1023840"/>
              <a:ext cx="50007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7"/>
            <p:cNvSpPr/>
            <p:nvPr/>
          </p:nvSpPr>
          <p:spPr>
            <a:xfrm>
              <a:off x="3108240" y="1023840"/>
              <a:ext cx="50007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Picture 8" descr="illu_endocrine_system"/>
          <p:cNvPicPr/>
          <p:nvPr/>
        </p:nvPicPr>
        <p:blipFill>
          <a:blip r:embed="rId1"/>
          <a:stretch/>
        </p:blipFill>
        <p:spPr>
          <a:xfrm>
            <a:off x="2303640" y="152280"/>
            <a:ext cx="48765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figure19c"/>
          <p:cNvPicPr/>
          <p:nvPr/>
        </p:nvPicPr>
        <p:blipFill>
          <a:blip r:embed="rId1"/>
          <a:stretch/>
        </p:blipFill>
        <p:spPr>
          <a:xfrm>
            <a:off x="152280" y="228600"/>
            <a:ext cx="8763120" cy="57499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304920" y="62485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-medlib.med.utah.edu/WebPath/ENDOHTML/ENDO03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Panc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ocrine Gla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a gland that secretes externally through a 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ocrine Gla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a gland that secretes hormones into the bloodstr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Panc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he pancreas has an exocrine portion that secretes digestive enzymes that are carried through a duct to the duodenum. The endocrine portion consists of the pancreatic islets, which secrete </a:t>
            </a: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glucagons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insulin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how the blood glucose concentration is regulated by negative feedback control mechanisms, with reference to insulin and glucag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cuss the importance of homeostasis in mammals, and explain the principles of homeostasis in terms of receptors, effectors and negative feed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sugar"/>
          <p:cNvPicPr/>
          <p:nvPr/>
        </p:nvPicPr>
        <p:blipFill>
          <a:blip r:embed="rId1"/>
          <a:stretch/>
        </p:blipFill>
        <p:spPr>
          <a:xfrm>
            <a:off x="2392200" y="152280"/>
            <a:ext cx="43610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743040" y="108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743040" y="1085760"/>
            <a:ext cx="7659720" cy="4541760"/>
            <a:chOff x="743040" y="1085760"/>
            <a:chExt cx="7659720" cy="4541760"/>
          </a:xfrm>
        </p:grpSpPr>
        <p:sp>
          <p:nvSpPr>
            <p:cNvPr id="66" name="Rectangle 3"/>
            <p:cNvSpPr/>
            <p:nvPr/>
          </p:nvSpPr>
          <p:spPr>
            <a:xfrm>
              <a:off x="743040" y="1085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4"/>
            <p:cNvSpPr/>
            <p:nvPr/>
          </p:nvSpPr>
          <p:spPr>
            <a:xfrm>
              <a:off x="743040" y="1085760"/>
              <a:ext cx="7659720" cy="454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282828"/>
                  </a:solidFill>
                  <a:latin typeface="Arial"/>
                  <a:ea typeface="Arial"/>
                </a:rPr>
                <a:t>  </a:t>
              </a:r>
              <a:r>
                <a:rPr b="0" lang="en-GB" sz="29200" spc="-1" strike="noStrike">
                  <a:solidFill>
                    <a:srgbClr val="282828"/>
                  </a:solidFill>
                  <a:latin typeface="Arial"/>
                  <a:ea typeface="Arial"/>
                </a:rPr>
                <a:t> </a:t>
              </a:r>
              <a:r>
                <a:rPr b="0" lang="en-GB" sz="900" spc="-1" strike="noStrike">
                  <a:solidFill>
                    <a:srgbClr val="282828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Picture 5" descr="Blood glucose regulation"/>
          <p:cNvPicPr/>
          <p:nvPr/>
        </p:nvPicPr>
        <p:blipFill>
          <a:blip r:embed="rId1"/>
          <a:stretch/>
        </p:blipFill>
        <p:spPr>
          <a:xfrm>
            <a:off x="228600" y="351000"/>
            <a:ext cx="876312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Homeos4"/>
          <p:cNvPicPr/>
          <p:nvPr/>
        </p:nvPicPr>
        <p:blipFill>
          <a:blip r:embed="rId1"/>
          <a:stretch/>
        </p:blipFill>
        <p:spPr>
          <a:xfrm>
            <a:off x="152280" y="1355760"/>
            <a:ext cx="883944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11:53:37Z</dcterms:created>
  <dc:creator>Sarah</dc:creator>
  <dc:description/>
  <dc:language>en-US</dc:language>
  <cp:lastModifiedBy>RomaK</cp:lastModifiedBy>
  <dcterms:modified xsi:type="dcterms:W3CDTF">2015-09-04T10:46:37Z</dcterms:modified>
  <cp:revision>17</cp:revision>
  <dc:subject/>
  <dc:title>Objectives</dc:title>
</cp:coreProperties>
</file>